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9718362"/>
        <c:axId val="58778676"/>
      </c:barChart>
      <c:catAx>
        <c:axId val="6971836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8778676"/>
        <c:crosses val="autoZero"/>
        <c:auto val="1"/>
        <c:lblAlgn val="ctr"/>
        <c:lblOffset val="100"/>
        <c:noMultiLvlLbl val="0"/>
      </c:catAx>
      <c:valAx>
        <c:axId val="58778676"/>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971836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0C533-5737-4CAC-B7E9-D1CBD75A5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7AA22-5D9A-43EA-BFD0-8DA3A80E3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07681-1F3C-423A-8F74-4B55FE43C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82BF3-287C-4184-A705-647A090A9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05C06-1A3F-41CC-9643-B50A22730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A203A-DC1B-4824-8965-5DD334567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1A121-1CF4-4E88-9668-7E2FFE1BD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7BD28-D449-460E-818E-1A0EDC08A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485BE-4F68-426D-A6EA-B36075387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5E045-7BCB-4604-A85D-85745E2AA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BF5FA-A0F1-48D0-A7CD-205B0254D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0BA8A-7EDF-48E4-8810-6D2CFA51D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7A2D2-4284-4C2C-A768-1D5E5782F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7465F-E6D7-46D2-B62A-21D7BD8AB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2EA07-53F3-4D4C-96DF-773643642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887F7-4002-42E0-A029-4E65F9D0E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CAEA5-153F-4626-804B-269C83673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6D2D5-A414-4697-9438-4AF94660D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9E38F-7C8A-4235-8186-778F11FAE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A5E43-300D-4294-AF96-C0A00B5A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C3D44-10FA-4F78-BC6A-21D2D1ECE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A7A3-22DE-450D-93BC-CCD0EAD66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E7164-A5FC-465A-8949-C21247E0E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71D7-E91A-4D2C-AC59-7CCFC50FB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9EBE8-E4EC-4D98-A408-F0D762F6981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89DD5A-628B-4ACF-98A0-12BF1024918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